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CCC97-E997-4A37-8435-03028CBED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86363-B431-4639-B89E-D0555B150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119EC-3ADC-4510-B287-35C0D5DAA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A8A72-0519-42B2-8E89-28D2FE378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06526-2C2E-46F9-A73B-9D31DE7B1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609EC-30DD-4530-9B91-E65847F1E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F5323-0727-4E95-A83B-AF37EA26F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49CBA-5FA5-4895-A110-C4CC9562D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88558-DD94-4F21-A1A7-341AABC6D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F82FD-3243-4FE0-983D-37A41CE6B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C8761-FDEA-4763-932F-8361863E6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E003D-F45C-4AB1-A801-21B1639E0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BB4D8-10C1-455C-8FFF-7E5FED97C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228FF-48FD-416A-B269-BF4D39D23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C1B88-DF34-4356-B6FA-D40556C16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B3962-C069-4572-A796-E4CAC4C1E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6A579-0B5A-436F-9FA8-8E4B52593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DE5D5-50AA-44F7-B0C2-F2B3AF975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BE986-FF93-4008-90C7-DD0742C70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45A1E-20D0-4547-92E2-C8B75CD38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A578D-761F-42EA-BB1A-07969BC18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BC0A6-A9DD-438A-9732-E0C46D921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C7F69-E4A1-4370-A221-FA158286F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0E0E4-367A-4285-BAB9-D1F6C8227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093B0-DA02-4009-80C7-F4A6D75FE69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1018B-D30C-4A50-8C84-AE37984355F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khmc.or.kr/" TargetMode="External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경희 의료원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ff"/>
                </a:solidFill>
                <a:uFillTx/>
                <a:latin typeface="굴림"/>
                <a:hlinkClick r:id="rId2"/>
              </a:rPr>
              <a:t>http://www.khmc.or.kr/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Time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7:50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1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~ 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퇴근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5:0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단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conference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7:30am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까지 출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zh-CN" sz="4000" spc="-1" strike="noStrike">
                <a:solidFill>
                  <a:srgbClr val="e5ffff"/>
                </a:solidFill>
                <a:latin typeface="굴림"/>
              </a:rPr>
              <a:t>실습생이 지켜야 할 사항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시간 끝나기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전 준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 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modality setting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복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상의 단정 하의 면바지 신발 구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      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남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예의 바르게 환자에게 친절하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     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System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Conference 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금요일 아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tudy 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회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:3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Case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실 지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운동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치료 아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방 수기 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Bobath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기타사항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 식사 –식권 판매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일치 만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숙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경희 의료원 앞 고시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격 차이가 大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4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~2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repor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쌤 마다 다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3:03:37Z</dcterms:created>
  <dc:creator>SEC</dc:creator>
  <dc:description/>
  <dc:language>en-US</dc:language>
  <cp:lastModifiedBy>SEC</cp:lastModifiedBy>
  <dcterms:modified xsi:type="dcterms:W3CDTF">2009-04-09T03:44:31Z</dcterms:modified>
  <cp:revision>3</cp:revision>
  <dc:subject/>
  <dc:title>경희 의료원</dc:title>
</cp:coreProperties>
</file>